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0C9F-B6DF-4A90-9182-43101774E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0823-B68C-4A1E-8C57-6C039997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B4426D-1947-40D7-9E1A-933509AB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EFD599-DB85-493A-AA1B-26FF91C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F9BB6-DE08-479F-83B8-8B77B24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87775-8346-4700-8C0C-CF319E2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E36EC-C778-4CF6-B045-81FBBAD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D3305-C322-411E-A33C-ABE03B5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FAB9B-9A50-4BD4-A9C3-AEBC84FB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5174F4-1284-4579-B0DB-2AEFCD4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11EA31-1826-454B-9746-EC4B1952D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155D-4665-4D8A-AB1F-425D5689C5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0BB2-8691-4033-A4D4-9190972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5E8B-4E72-4BF9-96C4-C8C46F1F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3F7E0-BC38-4CCC-AC3D-28401FF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D58C-97CD-4EAB-8FF0-EBD6C3F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8199-02BA-44EC-91A9-A7DAABBA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EE6E-8014-474F-A1B8-EABF8A7C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767C-0610-403B-9949-791405A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9756-C78C-4BE9-9400-D96B708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2299-0257-44AF-A0D1-0D5A0535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1416B-DF4C-4656-AE89-98A5D8E7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3AD8-3459-4F04-B959-3EBDDF1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CB7B-A158-4ACB-8680-ACDDA9A79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4FB5-56DF-49AE-BBE4-ABA9C7024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09BF7-5055-4971-9A4C-DA547A2E8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3B405-F737-45F9-A778-AC4C177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1C5FE2-ACD6-45E6-BD2D-A95594A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FF5F5-9166-4F30-A1CF-448A0BE4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7EB86-0EA0-449C-9A83-90007B93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7CDBA-3108-4249-AC33-918B898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FF803-D549-4160-A91D-2AE4148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CF382-6774-426F-B02C-8332455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03B75-BD8F-4B95-A8F7-FE18764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082B7-E956-4B19-BCBB-9200C6B9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C8ABE-4AC6-4E84-A3CC-F026CFD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ABE286-550B-4ECB-953E-7E93751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56870-8184-4CF2-9537-35E0AAC0E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A908E-F044-4886-BB86-92187E419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551A5-8B80-4022-90BD-F16B6B5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7CE49-BD9F-4C6B-BA8F-0E1EEAB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B7A43-11F1-40C5-9EF1-12C7D99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986AB-F4C1-4BB1-9412-58B62855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D0E93-C15D-4732-9F98-10B5E1E7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FF05-9E7C-481E-B9CF-5027C6AE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B95C-D375-4D2A-80B6-3AF3F65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3E26-45AE-433E-92EA-31BBD43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A95A2-0148-4EA1-B014-710C76FC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F74D2-6E9E-48FA-814D-815BA06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ADE12-CDE9-493B-BFEF-D9C148B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1F9E8-D8DA-4EB5-A80F-B76975326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7E291-5877-4FFA-A28A-861CFF0D2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21EC-AC32-4276-BE9A-CA05046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7ABBF-2B13-44F4-9875-7212A15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D0E75-0A3A-4B31-B4EF-2C01C60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0007F-7588-461A-84EA-3CE794C4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04DB-A1E5-492F-ABCE-2B48BC7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C7B5-404A-40FF-ADB3-1D95C617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3149-ACCD-4464-AFCC-9ECBCEEF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42C3A-6432-436F-8B54-9AC74A0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3515B-783E-4053-AA21-BDF0426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67F1A-EA81-46B9-962D-01EC16D3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B95AA-B06C-447E-BEFD-DF7F288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D7A02-7CE7-488B-AE93-3730133D0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48808-DD05-4474-97D8-EB162385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2BEC-1380-4E1D-8C0F-D861E6E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1DCF6-19D0-4618-A0F8-B0B77A7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A16F1-327C-4443-989A-C5E77846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BABB6-E3A1-4094-8D4C-367403BD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D48E3-E2EC-4FC4-9920-9A66B49D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2031-D875-45FB-9A87-AD79F8EC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D3CB1-E66B-49D2-8E1A-4A519B4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9ECF4-58D6-4A8B-A04A-A5F7AF0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78365-087A-4DDE-9EC9-F7C0B2F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8B0D4-351D-446D-9ABD-8590F13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6721F-50C2-4D73-B858-A183C82D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2A1DB-0A64-4653-BE09-B2765AF4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5C45C-EB43-4D33-8234-9EAC9D43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DFFA3-C269-4CEF-A2FA-2BF7FF1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996E-1960-4F1F-8C83-737FEDE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A0791-E998-48E9-9B90-07B8F6C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CE5A2-3D16-4BBE-A3B5-E2CE681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E048E-2B82-4F79-827F-BD7FD18D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8CFD8-ABEF-4E48-9733-03AD579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BB83-5A61-4571-9380-D02F554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9F973-6702-4FEF-AAA9-DAF16C2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2A69C-AB48-4744-82D2-D731440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E3A30-C71A-4203-A179-ADC386D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0F5F-0B22-4339-8276-62C1A16C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79F9D-FCB3-493C-9938-CA4C9B2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2117-B911-427D-9CE9-D9CF4938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5C31A-0FCD-420E-9789-1E4113A8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401C9-8DF8-4674-B9CF-1CBDFC1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57EDA-A0BA-4DD1-B243-340ECE27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74FA8-5B0F-47FD-B405-DA923FC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7E400-0F41-4EB9-84B7-B8B4A0A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5DFE3-11AC-4B84-80F8-C48E518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6D3D6-2271-43D9-846B-2454487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5B26D-12FB-475B-A784-A57DC250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82860-59B3-4154-8F15-34F6D28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42088-6DFE-48C5-914C-A2C25F6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BCCC9-E811-44B3-94E9-2E59D7F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8C468-90A5-4C31-8B92-CAEA2E8A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1B2B1-3ACA-4781-B410-C5915ACC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307C8-0052-4027-BC93-F7B5E162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33A46-D009-4CB8-B775-5972611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A7C77-BE86-4EAA-A040-5159BF7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7426B-BBDB-4FFA-B7E8-4E6A401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CAA53-8091-4D8A-B354-A70B241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FC0C9-2598-4813-9A83-7EC49AAF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FBFEA-109E-4FAB-8705-7C71666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B582-9F32-4B50-92B9-FA4C544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F941-9A76-40CC-96D6-65AF0B6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B2F8F-6451-4D94-B201-94F34CD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4A937-FD3F-49F2-9F13-794F6C8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F4493-814E-41A9-B917-68D04BD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566AA-64A7-4DBB-A12E-ACA7893A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E1D8F-F848-4B7E-8E74-3B7F3B15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5ACA-82A4-45CC-A96F-3C60F83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E2653-B4AA-492E-9864-490BA524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41A2F-8A01-45A2-9AB0-8789F28D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BCCC2-6123-4CFE-A8E1-107CBE9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D8FBC-BD4C-4D24-BD7F-E7797AD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5BF5-5458-4959-A363-820E924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87A2C-A584-4938-88FD-E826C83F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8A560-6488-4A67-8077-0760E91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8CC13-3816-4E35-A557-1F8B298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28C45-9A64-4FE3-94AF-B11D66A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51AA9-BC25-4BCC-8B62-926B3A1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CB27A-6696-43C9-8E6B-EE60B2B8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72435-F650-49FB-908D-1EBD0C49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D6B72-D37F-49BA-94E0-CE6C56F8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3F5EC-008C-4C04-8037-C9CE2E5A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DDA91-6A7A-4042-B6C4-F78C089A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79D79-325B-4F8C-A689-CA6A99A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8E864-6BFE-403B-BB34-1DA5E9F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36D22-3C37-4BB9-8EB0-E2C8F77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95171-1C31-4C1B-9CF5-089A4E1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E824C-4AF1-47C0-89EF-2FDF8BC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B842E-2C07-4C71-8DE1-6EBDACA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E6A54-F634-463C-990A-031FB97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80A26-D1E2-43B1-93A7-144FA37B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E709D-9849-47A5-A50C-64A50824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4E566-8AFF-4C8D-9886-B369DE15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28B29-8A7F-4EBC-BA3E-340F3370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398C-E6E1-4BF0-BEEA-F3717CED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4232F-FBDB-4ABA-8AA0-1706E32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2A947-42EF-46AF-82EA-2D5710F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1DFC5-B9A0-42A7-AB44-AD58B61C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30F70-3DF0-4039-A3E4-2170B882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2A91D-07C5-449A-A3FB-F1BCE7DC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88F77-1C97-4DB2-95CC-E6E5559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9CED6-5E4E-41C9-9E2D-D0791C6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B0E74-3C67-411B-833B-D30752C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F8D69-7BFA-4977-B788-A646A1E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2154D-47E0-43E5-A926-EEE21C56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9DD3E-5C41-47B5-B3A6-4BAD9B94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8B20E-8CE8-463C-8C9F-86BA41D0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F6C7F-56AF-474D-837E-6912E50B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ABBA4-43BE-4BD4-9430-FE2D46E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7F15A-45D2-4B96-A7C1-5EF7DD6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A3E7C-09A4-44A8-9A67-DF2CAF82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FC8ED-9426-4A1D-9000-0C107D0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4447D-54F4-4B93-969D-559B9CE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487AA-6665-465B-84A8-CFDBF94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D2DDA-9ADC-469E-B1B4-761F400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C6D3E-DB51-4CB8-A9A6-3FC6992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93669-5B25-42ED-B74B-741E6CE7EB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F3A74-E1AD-4664-9AA3-184886F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7038A-0CBA-46E9-951E-C14CC16E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CC25D-1843-4447-9AD9-67B1D270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7AECD-92D1-4460-8AC9-F4C88305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5BAC0-92AF-4E6D-8764-36B4BFC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F764D-C79B-4506-82A3-714C900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86229-5EBA-4234-8F7A-1757DE0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F573B-C195-40B7-A9EC-D995A0D2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8CE22-BACF-4C32-85E2-CB3DC6F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15196-EBE1-4106-A0C5-C75936C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9A5C9-2D4C-4F73-A209-84F32F22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DDA3B-7204-41EC-AC90-8FAB6DC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C076E-E576-4FA4-A683-A8E5737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8DFB0-CCF6-4234-95C9-AE65021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2A09A-DDE3-44A9-BAF5-A294FD1D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39F20-89C0-4042-8003-C0046171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3C346-87B7-45A8-800A-30FD3883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FCA95-EF70-44C8-8B14-147F2A1E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385E3-F60E-450A-8F92-7D2A0E7D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F34A7-A4AC-4917-A5C0-C13DDA7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4B017-7C23-43C7-B873-5DEAA3A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20887-CDA9-4D3B-B077-AB7F63A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F5C02-E2A1-43E7-8440-7453BF14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C8857-83E6-4024-BA87-C48FD5B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F79C6-A130-457A-B856-3195326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DECC3-8720-4218-8F7B-2753FA0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299E9-D869-4B79-B8CD-696A38A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F224B-5817-4469-953D-7B469209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106EA-9F7C-40A8-AE12-2E2D96CA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5814C-3C18-422F-A5AF-5184DED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0B0F4-0A6F-46F6-8F08-03FEA6B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59ED2-97C1-44F7-928C-A70A0EF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B18E3-A72C-4E10-88E2-D165EEF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6DA81-D800-46A6-8552-F9B642E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F6AC6-7790-446C-AF09-FEF7A68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B3536-94A7-4225-BCA9-00A72E2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397F1-2A29-4E34-B745-EB6AB09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02942-DE82-452D-9C6F-A0DF0EC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0C2AA-53F5-4131-B025-B2ED3D6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F5CD3-9EE5-4661-A74B-DF2A65CD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6CBAE-C7F4-492F-800B-D895F309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92D16-53C8-4EE3-9F0F-442A3708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DDFDB-E2A9-4836-9567-1B1F0574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AAA8-9E0C-49EB-846F-131B520F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09EC5-6231-459A-B3AC-1CEDB8F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CDFF8-EB09-494F-8A65-3463C766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31919-25DC-43C8-A161-825F72BE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DA3EB-F140-42A5-912E-9AB1DA5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30F7A-5CB0-4AF5-9C43-F0CFCC10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9148F-96AF-4289-8FFB-53F0A44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971D5-DE3A-4F09-A806-7C06F2813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1581-97AD-43B5-9CC4-1EF4026EE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52D6-991E-464B-B42A-328CB3E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6CA8-5391-499F-9872-C78334F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47AE-508A-4EC3-A69A-3BA0751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2BC4-4616-4A05-8E92-C64D6A1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CDCA-7E45-44D6-B7E3-80448B08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CB1D-5E3E-4A53-80D0-779CBAB8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92D9-D5C5-4995-B552-C0CE73C6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F0C9-56DE-45E3-9C7D-2C04CBF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5C25-A617-4DAB-8918-F1CF73B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2B13-2D69-46CB-972E-14A7714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D43B-696B-4A77-9D32-5127071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8863-99E1-42BB-871C-E951A1687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92504-E9D0-4F90-8529-4CEBF1508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3864-53A9-4B81-B0CD-B67EC658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C30F9-0DA4-4A11-A3D5-2B00AD1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966B7-1BDD-4177-BB09-2C36A214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6263E-B546-48DD-85BA-7AF8CFFE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56A9C-3B0B-4DFE-AF0A-23607AED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79863-BF08-4B42-BB89-4CA8F10D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481E3-941C-48F4-838E-E737D220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8CF14-3802-472F-B1DE-AB9FB9E5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E8673-4616-4E66-94F5-21291284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C6BF5-68CF-48DC-9116-C1CD1EE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C1645-DAA8-4599-ABC8-D8169A5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1655-EEF4-4CF8-B561-18BE4B3D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A23E1-5C80-482E-938E-D3668F2CD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C94A7-DEC9-4FA1-AD4D-698C2EE2D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2B267-024E-4268-B0BC-4C5D5ED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C6053-ABEA-4613-9437-EED8534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D7782-0399-4139-A7DD-B4A3259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7B6CB6-36D9-498F-818B-2184A313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F21AA2-50B0-44A0-933C-67236B9D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B037B-2AF4-4366-81CD-52519CF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DD464-4E07-4EC4-A51D-79F800F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C46C5-667E-4229-BC51-FB5E560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382E-92F1-4587-B188-43DDD4E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82C03-3102-4923-9E07-A4229799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0D804-A7F9-47A6-B109-AAA0711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4ACF0-2466-4A2F-AB66-66283328F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131B-3DBE-4017-9F13-84F1F2265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204B-1CB7-47AA-87A9-4450E6A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BA3C8-3198-46A5-AC92-F51DBAA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7C69-D750-426E-879A-039CA94F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5C17-3A5E-47B3-8519-6648E369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1182-809F-4BC0-8BFA-A775A43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D4B0-F5DB-4B8F-A143-6A73A9C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46DC-C7B1-4EB0-942E-E761476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8589-CB82-4AED-9A12-AF4E383E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47F6-7EE2-4B64-8B16-8819622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0E01-E3A7-44A4-91EB-43DEAC7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DE40-BE09-4E3E-B4DD-C296795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3849-A75C-4628-B6E1-CFF626643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9EAC8-6352-47BC-BEA5-24BFC75CC4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A5E73-93AF-43EE-859E-F5C55DB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A7324-CC32-4EE7-81C2-FBA6DCDB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9E5E5-41F8-4EB5-9522-DEAE5AA6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DF1F6-3497-472A-8B91-73C00A88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BA21-1387-41B6-9D70-2A9D849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A0F0F-E231-43C3-9FFE-8A6C972C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4AD83-373F-4C75-BC7B-4E30DEAF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935C3-C731-430A-BE47-A4FD47D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C0618-63AC-4B90-8877-B339CA0B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5C729-C3F8-476C-810D-EA3EBFC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AC2F3-F3E8-4313-9184-C147BD2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FEBE4-789F-4CAC-8267-BD8CAA19C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3BFA5-A8FE-4602-8C4C-FD1286AD1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60598-3257-4042-84B0-99F2AA9D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6D980-5EF7-494A-BC87-0809B20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943-ABF8-434E-9ED9-479544761B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1B9-605F-4214-85D9-001ED71183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5BE5-6478-433F-BEB7-DD4E5BC481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4C1-F9CB-4391-81A8-F02CC1CE0A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903-3518-42D8-A2EB-06310151D1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4523-D8E4-47E0-AA69-C76A76BA9D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E0B-521E-454B-A711-142E75AE64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81E-8DD6-4B7E-84D9-343337289B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FBD-8A10-4141-B64B-4D3B68A3A3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FD8-91FA-49EC-93DC-F034C93920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79F-272D-4DB8-AC81-733A1F2E4D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B39-509F-4898-B0F8-B7D74A1E88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7730-99E1-407F-8892-C15E262F1B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0498-4BFA-4D6C-A9E4-3FE51E98A3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CFBE-B7C0-4171-ACDA-6E99C15D71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620-5A3D-4AF4-AE9B-497263A019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2CE5-B522-4D78-BA28-C42ED1C295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F20-0B41-4C99-8BB9-BE62F25889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F2C-D788-46BD-BF67-0DDD924278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AA41-55DB-4AD3-8496-03A4F52FD9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D6A-247A-415B-852D-7D3A7C5543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ECC-B155-44A9-A9CD-EE754B32B9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503-7E18-4ED7-B216-236C85F5CD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60F1-AAE1-4D37-AA8C-3D8B50045D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924280" y="291132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表 内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8"/>
          <p:cNvGrpSpPr/>
          <p:nvPr/>
        </p:nvGrpSpPr>
        <p:grpSpPr>
          <a:xfrm>
            <a:off x="1071720" y="1284120"/>
            <a:ext cx="1214280" cy="1471680"/>
            <a:chOff x="1071720" y="1284120"/>
            <a:chExt cx="1214280" cy="1471680"/>
          </a:xfrm>
        </p:grpSpPr>
        <p:sp>
          <p:nvSpPr>
            <p:cNvPr id="999" name="椭圆 3"/>
            <p:cNvSpPr/>
            <p:nvPr/>
          </p:nvSpPr>
          <p:spPr>
            <a:xfrm>
              <a:off x="10717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4"/>
            <p:cNvSpPr/>
            <p:nvPr/>
          </p:nvSpPr>
          <p:spPr>
            <a:xfrm>
              <a:off x="186048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椭圆 5"/>
            <p:cNvSpPr/>
            <p:nvPr/>
          </p:nvSpPr>
          <p:spPr>
            <a:xfrm>
              <a:off x="143676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椭圆 6"/>
            <p:cNvSpPr/>
            <p:nvPr/>
          </p:nvSpPr>
          <p:spPr>
            <a:xfrm>
              <a:off x="10717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椭圆 7"/>
            <p:cNvSpPr/>
            <p:nvPr/>
          </p:nvSpPr>
          <p:spPr>
            <a:xfrm>
              <a:off x="186048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9"/>
          <p:cNvGrpSpPr/>
          <p:nvPr/>
        </p:nvGrpSpPr>
        <p:grpSpPr>
          <a:xfrm>
            <a:off x="3000240" y="1284120"/>
            <a:ext cx="1214640" cy="1471680"/>
            <a:chOff x="3000240" y="1284120"/>
            <a:chExt cx="1214640" cy="1471680"/>
          </a:xfrm>
        </p:grpSpPr>
        <p:sp>
          <p:nvSpPr>
            <p:cNvPr id="1005" name="椭圆 10"/>
            <p:cNvSpPr/>
            <p:nvPr/>
          </p:nvSpPr>
          <p:spPr>
            <a:xfrm>
              <a:off x="300024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11"/>
            <p:cNvSpPr/>
            <p:nvPr/>
          </p:nvSpPr>
          <p:spPr>
            <a:xfrm>
              <a:off x="378936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椭圆 12"/>
            <p:cNvSpPr/>
            <p:nvPr/>
          </p:nvSpPr>
          <p:spPr>
            <a:xfrm>
              <a:off x="336528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椭圆 13"/>
            <p:cNvSpPr/>
            <p:nvPr/>
          </p:nvSpPr>
          <p:spPr>
            <a:xfrm>
              <a:off x="300024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14"/>
            <p:cNvSpPr/>
            <p:nvPr/>
          </p:nvSpPr>
          <p:spPr>
            <a:xfrm>
              <a:off x="378936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15"/>
          <p:cNvGrpSpPr/>
          <p:nvPr/>
        </p:nvGrpSpPr>
        <p:grpSpPr>
          <a:xfrm>
            <a:off x="5000760" y="1284120"/>
            <a:ext cx="1214280" cy="1471680"/>
            <a:chOff x="5000760" y="1284120"/>
            <a:chExt cx="1214280" cy="1471680"/>
          </a:xfrm>
        </p:grpSpPr>
        <p:sp>
          <p:nvSpPr>
            <p:cNvPr id="1011" name="椭圆 16"/>
            <p:cNvSpPr/>
            <p:nvPr/>
          </p:nvSpPr>
          <p:spPr>
            <a:xfrm>
              <a:off x="500076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17"/>
            <p:cNvSpPr/>
            <p:nvPr/>
          </p:nvSpPr>
          <p:spPr>
            <a:xfrm>
              <a:off x="57895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18"/>
            <p:cNvSpPr/>
            <p:nvPr/>
          </p:nvSpPr>
          <p:spPr>
            <a:xfrm>
              <a:off x="536580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19"/>
            <p:cNvSpPr/>
            <p:nvPr/>
          </p:nvSpPr>
          <p:spPr>
            <a:xfrm>
              <a:off x="500076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椭圆 20"/>
            <p:cNvSpPr/>
            <p:nvPr/>
          </p:nvSpPr>
          <p:spPr>
            <a:xfrm>
              <a:off x="57895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21"/>
          <p:cNvGrpSpPr/>
          <p:nvPr/>
        </p:nvGrpSpPr>
        <p:grpSpPr>
          <a:xfrm>
            <a:off x="7000920" y="1284120"/>
            <a:ext cx="1214280" cy="1471680"/>
            <a:chOff x="7000920" y="1284120"/>
            <a:chExt cx="1214280" cy="1471680"/>
          </a:xfrm>
        </p:grpSpPr>
        <p:sp>
          <p:nvSpPr>
            <p:cNvPr id="1017" name="椭圆 22"/>
            <p:cNvSpPr/>
            <p:nvPr/>
          </p:nvSpPr>
          <p:spPr>
            <a:xfrm>
              <a:off x="70009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23"/>
            <p:cNvSpPr/>
            <p:nvPr/>
          </p:nvSpPr>
          <p:spPr>
            <a:xfrm>
              <a:off x="778968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24"/>
            <p:cNvSpPr/>
            <p:nvPr/>
          </p:nvSpPr>
          <p:spPr>
            <a:xfrm>
              <a:off x="736596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5"/>
            <p:cNvSpPr/>
            <p:nvPr/>
          </p:nvSpPr>
          <p:spPr>
            <a:xfrm>
              <a:off x="70009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6"/>
            <p:cNvSpPr/>
            <p:nvPr/>
          </p:nvSpPr>
          <p:spPr>
            <a:xfrm>
              <a:off x="778968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矩形 27"/>
          <p:cNvSpPr/>
          <p:nvPr/>
        </p:nvSpPr>
        <p:spPr>
          <a:xfrm>
            <a:off x="785880" y="3143160"/>
            <a:ext cx="70041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问：求一共有多少个，用加法计算怎样列式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8"/>
          <p:cNvSpPr/>
          <p:nvPr/>
        </p:nvSpPr>
        <p:spPr>
          <a:xfrm>
            <a:off x="2060640" y="3929040"/>
            <a:ext cx="375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+5+5+5=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=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-23760" y="46080"/>
            <a:ext cx="2504880" cy="525600"/>
            <a:chOff x="-23760" y="46080"/>
            <a:chExt cx="2504880" cy="525600"/>
          </a:xfrm>
        </p:grpSpPr>
        <p:pic>
          <p:nvPicPr>
            <p:cNvPr id="1025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86040" y="46080"/>
              <a:ext cx="239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6" name="组合 4"/>
            <p:cNvGrpSpPr/>
            <p:nvPr/>
          </p:nvGrpSpPr>
          <p:grpSpPr>
            <a:xfrm>
              <a:off x="-23760" y="141120"/>
              <a:ext cx="329760" cy="273960"/>
              <a:chOff x="-23760" y="141120"/>
              <a:chExt cx="329760" cy="273960"/>
            </a:xfrm>
          </p:grpSpPr>
          <p:sp>
            <p:nvSpPr>
              <p:cNvPr id="1027" name="椭圆 52"/>
              <p:cNvSpPr/>
              <p:nvPr/>
            </p:nvSpPr>
            <p:spPr>
              <a:xfrm rot="16200000">
                <a:off x="199440" y="293040"/>
                <a:ext cx="86040" cy="1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680" y="284400"/>
                <a:ext cx="19332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椭圆 58"/>
              <p:cNvSpPr/>
              <p:nvPr/>
            </p:nvSpPr>
            <p:spPr>
              <a:xfrm rot="16200000">
                <a:off x="199440" y="182880"/>
                <a:ext cx="86040" cy="1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0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" y="157320"/>
                <a:ext cx="19332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1"/>
          <p:cNvSpPr/>
          <p:nvPr/>
        </p:nvSpPr>
        <p:spPr>
          <a:xfrm>
            <a:off x="142920" y="1076400"/>
            <a:ext cx="857232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七（       ）        八（       ）七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八二十四     六九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五（       ）三十      （       ）八五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         6×7=      5×4=       3×6=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6=         4×9=      6×8=       5×9=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2"/>
          <p:cNvSpPr/>
          <p:nvPr/>
        </p:nvSpPr>
        <p:spPr>
          <a:xfrm>
            <a:off x="1500120" y="122544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3"/>
          <p:cNvSpPr/>
          <p:nvPr/>
        </p:nvSpPr>
        <p:spPr>
          <a:xfrm>
            <a:off x="5129280" y="12254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4"/>
          <p:cNvSpPr/>
          <p:nvPr/>
        </p:nvSpPr>
        <p:spPr>
          <a:xfrm>
            <a:off x="971640" y="17906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5"/>
          <p:cNvSpPr/>
          <p:nvPr/>
        </p:nvSpPr>
        <p:spPr>
          <a:xfrm>
            <a:off x="5137200" y="180180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6"/>
          <p:cNvSpPr/>
          <p:nvPr/>
        </p:nvSpPr>
        <p:spPr>
          <a:xfrm>
            <a:off x="1511280" y="23734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7"/>
          <p:cNvSpPr/>
          <p:nvPr/>
        </p:nvSpPr>
        <p:spPr>
          <a:xfrm>
            <a:off x="4835520" y="238284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8"/>
          <p:cNvSpPr/>
          <p:nvPr/>
        </p:nvSpPr>
        <p:spPr>
          <a:xfrm>
            <a:off x="1285920" y="296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>
            <a:off x="3571920" y="2930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20"/>
          <p:cNvSpPr/>
          <p:nvPr/>
        </p:nvSpPr>
        <p:spPr>
          <a:xfrm>
            <a:off x="5319720" y="29750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21"/>
          <p:cNvSpPr/>
          <p:nvPr/>
        </p:nvSpPr>
        <p:spPr>
          <a:xfrm>
            <a:off x="7140600" y="296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22"/>
          <p:cNvSpPr/>
          <p:nvPr/>
        </p:nvSpPr>
        <p:spPr>
          <a:xfrm>
            <a:off x="135900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23"/>
          <p:cNvSpPr/>
          <p:nvPr/>
        </p:nvSpPr>
        <p:spPr>
          <a:xfrm>
            <a:off x="353232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24"/>
          <p:cNvSpPr/>
          <p:nvPr/>
        </p:nvSpPr>
        <p:spPr>
          <a:xfrm>
            <a:off x="531972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5"/>
          <p:cNvSpPr/>
          <p:nvPr/>
        </p:nvSpPr>
        <p:spPr>
          <a:xfrm>
            <a:off x="714384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5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53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5:00Z</dcterms:created>
  <dc:creator/>
  <dc:description/>
  <dc:language>en-US</dc:language>
  <cp:lastModifiedBy>万润仪器贸易公司</cp:lastModifiedBy>
  <dcterms:modified xsi:type="dcterms:W3CDTF">2020-08-21T00:45:38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